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1D3F-854B-4AE7-A0D4-87AF1953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5A73-3F7A-4473-B6D2-6DFCA5D8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F413-F3B1-4B0B-89AA-C9EFF673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8C04-03E8-402A-954A-F7AD6E69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A8C0-A992-4A12-BFC8-CB29E347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A91F-661A-4EFF-82C4-2CE64D25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824B-5C8F-4A1B-A943-1979DDF2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60C1-E8B3-4B32-869E-7C80E57C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17A2-D0E6-4FF7-946A-D8E3D2DD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3119-734A-4A0B-AB3B-4E13F7E6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5795-E090-4F9F-A4B1-1A408EC7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2762-3FBA-45C5-A544-22CDEB0F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62AD-AAD9-484B-A235-BBC5128E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5C78-D4C0-4961-B0D1-2B4BF9CC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45EC-C4CE-45E1-A702-242F4F9D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BA05-3287-4617-B234-EFFD16E4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F75E-68F1-4E0E-A70D-7D9A2790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A116-E6F0-4FC4-955F-381E48FA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FD7A-82A0-4155-94C6-FD0B1E3E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BF62-6934-4B9E-80B7-9DCD3027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BCC8-0E05-4617-9A69-4B3F8F9D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47BB-6006-48A6-9F00-87D98F73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B076-4913-4A41-834D-950FEF00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5731-F514-4C8A-9250-E5E16F22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E012-5018-406A-BC9A-3E8997C27E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32CF-0126-4C70-8564-E819189426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Safety Practices in Healthcar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Ergonomics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efined: applied science used to promot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fety and well-being of a person by adap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nvironment and using techniques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even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ju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Techniques may includ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correct furniture/ equipment plac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appropriate body mechanics t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efforts to avoid repetitive mov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environmental aware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257800" y="3193920"/>
            <a:ext cx="363852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Fire Safety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Fires need three things to star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oxygen/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fuel (anything that will bur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heat (sparks, matches, fla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5638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Fire Safety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47920" y="1142640"/>
            <a:ext cx="5790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 Causes of f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Carelessness with smoking/mat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Misuse of electric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defects in heating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improper garbage dispo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 ar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4307040"/>
            <a:ext cx="2819520" cy="2073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410080" y="3738600"/>
            <a:ext cx="3124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Fire Safety</a:t>
            </a:r>
            <a:br>
              <a:rPr sz="4000"/>
            </a:b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C. Fire Extinguishers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ice used to put out a f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aution: residues produced m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harmful if inhaled or irritating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in skin and eyes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. Class 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water – for pape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oth, wo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. Class 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O2 – for gas, oi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int, liquid, and cooking f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3. Class 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potassium dry chemical-for electr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4. Class ABC/Combin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graphite-type chem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ll fire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17240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D. Fire Prevention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84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Obey “NO SMOKING” signs, especially a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and flammable liquids (gas, alcohol, etc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Extinguish flammable items completely and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priate contain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Check for damaged electrical cords and do 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load electrical outl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Store flammable materials in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iners in a safe ar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Declut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553080" y="4449600"/>
            <a:ext cx="2152800" cy="20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Fire Safety</a:t>
            </a:r>
            <a:br>
              <a:rPr sz="4000"/>
            </a:b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E. Procedures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Stay calm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Evacuate using the facility’s emergency pl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R – A – C – 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 = Rescue…anyone in immediate dan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Remove…patients to a safe pl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Activate…the fire ala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 = Confine…the fire and cl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/doors to prevent drafts. Turn o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2 and electrical equipment if your safety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endange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Extinguish…the fire using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opriate fire extinguish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Safety Standards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Defined: set of rules designed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 both the patient and the h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 wor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Established and enforced by 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cupational Safety and H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ion (OSH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781680" y="4191120"/>
            <a:ext cx="1954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Safety Standards - OSHA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Occupational Exposure to Hazard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micals Stand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Blood Borne Pathogen Stand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dates to protect health care work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diseases caused by exposure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 fluids (more to come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Use of Appropriat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ody Mechan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ined: the way in which the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s and maintains balance wh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ing the most efficient use of all 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idelines prevent strain and hel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intain muscle strength (more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e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5000" y="2057040"/>
            <a:ext cx="3124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pat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osure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zard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Requi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ufacturers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fety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ets (MSD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zard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ts they s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3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Occupational Exposure to</a:t>
            </a:r>
            <a:br>
              <a:rPr sz="32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Hazardous Chemicals Standards</a:t>
            </a:r>
            <a:br>
              <a:rPr sz="40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 Requires that employ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inform employees of all chemicals and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the workpl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train employees on the proper procedures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icies to fol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identify type/location of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 locate/use MSDS man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 read/interpret labels/sig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. use personal protective equipment (PP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 spill management and chemical dispo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. incident exposure documentation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7631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Safety Guidelines</a:t>
            </a:r>
            <a:br>
              <a:rPr sz="4000"/>
            </a:b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A. Equipment and Solutions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Do not operate equipment until you are instru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use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Read all operating instructions and follow all safe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cau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Report damaged/malfunctioning equi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mediately, including frayed electrical 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Read all MSDS sheets and do not use unlabe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Read labels thoroughly to ensu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ion and u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Use solutions only as indicated and do not m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s unless instructed to do so by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ervis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Report and document incident exposure immediat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Safety Guidelines</a:t>
            </a:r>
            <a:br>
              <a:rPr sz="4000"/>
            </a:b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B. Patient Safety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6781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 Do not perform procedures on a patient unl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are instructed to do so, have appropri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uthorization, and follow approved techniqu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 Provide privacy for all patients and ensure yo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e working with the correct patien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. Communicate with your patient and ens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sen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. Observe t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tient f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ges 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alth 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at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ea f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zard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352680" y="3200400"/>
            <a:ext cx="54864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Safety Guidelines</a:t>
            </a:r>
            <a:br>
              <a:rPr sz="4000"/>
            </a:b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C. Personal Safety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884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It is your responsibility to protect yourself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others from inju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Use correct body mechan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Wear appropriate attire/unifo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Walk – never run – in healthcare setting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 Report, document, and manage any inci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osures or safety viol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. Maintain neat and clean work are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. Wash hands frequently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927760" y="3581280"/>
            <a:ext cx="3216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4T19:32:28Z</dcterms:created>
  <dc:creator>LW</dc:creator>
  <dc:description/>
  <dc:language>en-US</dc:language>
  <cp:lastModifiedBy>LW</cp:lastModifiedBy>
  <dcterms:modified xsi:type="dcterms:W3CDTF">2012-08-24T20:08:27Z</dcterms:modified>
  <cp:revision>2</cp:revision>
  <dc:subject/>
  <dc:title>Safety Practices in Healthcare</dc:title>
</cp:coreProperties>
</file>